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325100" cy="7175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9EBA-F3E3-4684-AEC2-DF71EBDC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520" y="4148280"/>
            <a:ext cx="929340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A7F-269E-4682-8C18-F2041130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67472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520" y="414828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600" y="414828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943-F303-4C1E-99BE-E5051997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29923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7960" y="1674720"/>
            <a:ext cx="29923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0040" y="1674720"/>
            <a:ext cx="29923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520" y="4148280"/>
            <a:ext cx="29923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7960" y="4148280"/>
            <a:ext cx="29923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0040" y="4148280"/>
            <a:ext cx="29923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8EC5-625D-4A02-AB9F-5528AB5E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7AE-5B07-4B46-94AA-A907F646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392A-7170-4AB4-A6FC-51B14FD4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453492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600" y="1674720"/>
            <a:ext cx="453492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0BA-E93A-4072-AE3D-FFCE51CA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824-60C3-4D19-A6A2-A6ED75A8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520" y="286920"/>
            <a:ext cx="9293400" cy="55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744-F0D8-45DA-9A03-02B92719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600" y="1674720"/>
            <a:ext cx="453492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520" y="414828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A9FE-2997-4C7B-9159-F546783D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453492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600" y="167472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600" y="414828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850-23BA-46A6-8A55-1B5B2DD1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600" y="167472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520" y="4148280"/>
            <a:ext cx="929340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43D-FCDF-4410-9ACA-CB8DDD08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880" y="6649560"/>
            <a:ext cx="24098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27280" y="6649560"/>
            <a:ext cx="32702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9440" y="6649560"/>
            <a:ext cx="24098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E88C-48A4-4D31-9C1B-152ACE8AF0C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5520" y="499680"/>
            <a:ext cx="9293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ifferent 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ath by Power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asic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28F2-4635-4B16-86FC-9ECD08C5109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5520" y="161640"/>
            <a:ext cx="92934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WORKING WITH MASTERS &amp; TEMPL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lide &amp; title ma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ther ma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ultiple ma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ackgr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Various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sign Templ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8614-0BE6-4105-8333-751C2A81F23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5520" y="499680"/>
            <a:ext cx="9293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li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lide sor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lide S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le form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ypes of presen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089B-D3AA-47AE-82DD-01563236646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5520" y="161640"/>
            <a:ext cx="92934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QUICK AND DIRTY PRES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empl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6651-6089-4388-9F4F-D170B947B7B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5520" y="499680"/>
            <a:ext cx="9293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BASIC CONCE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 Lay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ent lay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ign la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lide Layo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lour sc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ack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A4BB-8645-4FFA-99BF-6E3AA64EC8E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5520" y="499680"/>
            <a:ext cx="9293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WORKING WITH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utline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abulations and mar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ulti colum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pecial text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033B-E8BB-452B-BAB4-FBE4FD3462E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5520" y="499680"/>
            <a:ext cx="9293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INSERTING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Text objec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Placeholde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Textbox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Imag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Graphic forma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Using the PhotoAlb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lipa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Drawing objec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utoshap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SmartA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worda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har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Link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Hyperlink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Navig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OLE objec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Tabl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Diagram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Object manag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Selec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Mov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Ord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Group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B6B9-E16D-4120-90DA-3D3D98B5838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5520" y="161640"/>
            <a:ext cx="92934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ANIMATING THE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lide Trans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ustom Anim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inks and action butt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ACF4-A6D2-43A8-8EE0-9EE076685C0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5520" y="499680"/>
            <a:ext cx="9293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DOING THE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ustom Sh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io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iding s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i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06ED-AFC3-416C-BB6B-B70C9B69BBF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5520" y="499680"/>
            <a:ext cx="9293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SPECIF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roof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viewing / Com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xport / im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rin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ublishing to w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i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hft-F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a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hift Click on view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udg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B - blan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trl-Al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hoto Alb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ummary sli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end to W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lour Sc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4D68-3BFB-404C-8BEF-70B0B6E39EE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9:48:07Z</dcterms:created>
  <dc:creator>DP</dc:creator>
  <dc:description/>
  <dc:language>en-US</dc:language>
  <cp:lastModifiedBy>DP</cp:lastModifiedBy>
  <dcterms:modified xsi:type="dcterms:W3CDTF">2011-07-06T09:50:30Z</dcterms:modified>
  <cp:revision>2</cp:revision>
  <dc:subject/>
  <dc:title>INTRODUCTION</dc:title>
</cp:coreProperties>
</file>